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9.gif" ContentType="image/gif"/>
  <Override PartName="/ppt/media/image1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9B32-D20B-4A7D-ACEF-5DA7FD6C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CE84-8103-42DA-AB6E-BB26ACE7A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3B65-CC9E-4C1B-9A45-1D51B9D4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66A7-59E3-416E-BCAC-899EC99A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1F5D-A4FF-4533-A12F-DB25C0CCB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73B76-9993-4107-A600-F0A17C88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FA80-37BC-4948-B093-E5DE8DFF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65936-62E0-4FE5-8366-59885FE1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FAE7-2364-4931-90ED-A1E30455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7AA8-5E5A-4F2D-9B03-B6D8DAE1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24D6-C5CB-4D79-87BD-2E103009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C7A-48A6-488D-9B7A-D66BA78A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26E1-8DBC-465C-90E2-03A52307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DE35-20DB-4055-8B42-5E1033B9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E4FB-F36A-4D19-A86D-4993DEC7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4057-781D-477E-9CFA-3CCC9D1C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5CD4-089E-4393-A896-01E58AB5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D636-63FC-47A7-98D3-B1F012C9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D52-6E74-4E05-8190-378DED16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16EE-208E-4F7E-BB8A-E5E01F62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C2BA-AB32-4660-93F8-A8357ABC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5AC8-7319-49C6-B427-713AA298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0BE5-850F-48B8-AE79-19C292B7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1170-9305-40A4-BF5E-DE5A6909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2282-6AD0-4AEC-B853-F3CBFD562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80C5-005F-491A-B671-AD59D0B9A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2361960"/>
            <a:ext cx="38102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ound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onar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n instrument that uses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reflected sound waves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to find underwater object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Palatino Linotype"/>
              </a:rPr>
              <a:t>For example,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5" name="Picture 5" descr="sonar"/>
          <p:cNvPicPr/>
          <p:nvPr/>
        </p:nvPicPr>
        <p:blipFill>
          <a:blip r:embed="rId1"/>
          <a:stretch/>
        </p:blipFill>
        <p:spPr>
          <a:xfrm>
            <a:off x="380880" y="335268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sonar"/>
          <p:cNvPicPr/>
          <p:nvPr/>
        </p:nvPicPr>
        <p:blipFill>
          <a:blip r:embed="rId2"/>
          <a:stretch/>
        </p:blipFill>
        <p:spPr>
          <a:xfrm>
            <a:off x="3352680" y="3352680"/>
            <a:ext cx="2438640" cy="2057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sonar"/>
          <p:cNvPicPr/>
          <p:nvPr/>
        </p:nvPicPr>
        <p:blipFill>
          <a:blip r:embed="rId3"/>
          <a:stretch/>
        </p:blipFill>
        <p:spPr>
          <a:xfrm>
            <a:off x="6248520" y="4572000"/>
            <a:ext cx="2381040" cy="20480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"/>
          <p:cNvSpPr/>
          <p:nvPr/>
        </p:nvSpPr>
        <p:spPr>
          <a:xfrm>
            <a:off x="533520" y="563868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Animals use sonar or echo location to find their prey; these sounds have such a high pitch or frequency that the human ear cannot hea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6248520" y="342900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Humans use sonar to locate or map object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ound and Instruments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Instruments can be played at different pitches by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changing lengths of different parts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Palatino Linotype"/>
              </a:rPr>
              <a:t>For example,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nother way to make different pitches is to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change the thickness of the material that vibrates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Palatino Linotype"/>
              </a:rPr>
              <a:t>For example,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2" name="Picture 6" descr="A2506_trombone_2col_1749"/>
          <p:cNvPicPr/>
          <p:nvPr/>
        </p:nvPicPr>
        <p:blipFill>
          <a:blip r:embed="rId1"/>
          <a:stretch/>
        </p:blipFill>
        <p:spPr>
          <a:xfrm>
            <a:off x="3962520" y="4952880"/>
            <a:ext cx="4267080" cy="17352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762120" y="533412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A trombone’s mute absorbs some of the sound waves produced, thus producing a softer note when played.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3733920" y="62485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5" name="Picture 9" descr=""/>
          <p:cNvPicPr/>
          <p:nvPr/>
        </p:nvPicPr>
        <p:blipFill>
          <a:blip r:embed="rId2"/>
          <a:stretch/>
        </p:blipFill>
        <p:spPr>
          <a:xfrm>
            <a:off x="3429000" y="190512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3"/>
          <a:stretch/>
        </p:blipFill>
        <p:spPr>
          <a:xfrm>
            <a:off x="152280" y="6172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64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2590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That’s all folks!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52280" y="60958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6019920" y="3200400"/>
            <a:ext cx="100008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85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Orbus Multi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rbus Multiserif"/>
              </a:rPr>
              <a:t>The Facts of Sound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Orbus Multi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rbus Multiserif"/>
              </a:rPr>
              <a:t>The Ear and Sound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Orbus Multi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rbus Multiserif"/>
              </a:rPr>
              <a:t>Sound Vocabulary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ffffcc"/>
              </a:buClr>
              <a:buFont typeface="Orbus Multi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rbus Multiserif"/>
              </a:rPr>
              <a:t>Musical Instruments and Sound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The Facts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ound …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1.  Is a form of energy produced &amp; transmitted by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vibrating matte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2. 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Travels in wave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3. 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Travels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more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quickly through solids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than liquids or gase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" descr="eardi"/>
          <p:cNvPicPr/>
          <p:nvPr/>
        </p:nvPicPr>
        <p:blipFill>
          <a:blip r:embed="rId1"/>
          <a:stretch/>
        </p:blipFill>
        <p:spPr>
          <a:xfrm>
            <a:off x="2209680" y="4267080"/>
            <a:ext cx="4191120" cy="24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The Ear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Sound is carried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to our ears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through vibrating air molecules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Our ears take in sound waves &amp; turn them into signals that go to our brains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ound waves move through 3 parts of the ear; outer ear, middle ear, &amp; inner ear.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3886200" y="5715000"/>
            <a:ext cx="1447920" cy="533520"/>
          </a:xfrm>
          <a:prstGeom prst="upArrowCallout">
            <a:avLst>
              <a:gd name="adj1" fmla="val 67854"/>
              <a:gd name="adj2" fmla="val 67848"/>
              <a:gd name="adj3" fmla="val 16667"/>
              <a:gd name="adj4" fmla="val 66660"/>
            </a:avLst>
          </a:prstGeom>
          <a:solidFill>
            <a:srgbClr val="ff99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Middle Ear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Vibration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Back and forth movement of molecules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of matte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Palatino Linotype"/>
              </a:rPr>
              <a:t>For example,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4" name="Picture 5" descr="musicnoise"/>
          <p:cNvPicPr/>
          <p:nvPr/>
        </p:nvPicPr>
        <p:blipFill>
          <a:blip r:embed="rId1"/>
          <a:stretch/>
        </p:blipFill>
        <p:spPr>
          <a:xfrm>
            <a:off x="533520" y="3657600"/>
            <a:ext cx="3429000" cy="2419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diver"/>
          <p:cNvPicPr/>
          <p:nvPr/>
        </p:nvPicPr>
        <p:blipFill>
          <a:blip r:embed="rId2"/>
          <a:stretch/>
        </p:blipFill>
        <p:spPr>
          <a:xfrm>
            <a:off x="4876920" y="3505320"/>
            <a:ext cx="32004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ompression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Where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molecules are being pressed together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as the sound waves move through matte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Palatino Linotype"/>
              </a:rPr>
              <a:t>For example,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wave travels through the springs just like sound waves travel through the air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the places where the springs are close together are like compressions in the air.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98" name="Picture 5" descr="1Fig2"/>
          <p:cNvPicPr/>
          <p:nvPr/>
        </p:nvPicPr>
        <p:blipFill>
          <a:blip r:embed="rId1"/>
          <a:stretch/>
        </p:blipFill>
        <p:spPr>
          <a:xfrm>
            <a:off x="2895480" y="4724280"/>
            <a:ext cx="289584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Sound Waves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Alternating areas of high &amp; low pressure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in the air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ALL sound is carried through matter as sound waves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ound waves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move out in ALL directions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from a vibrating objec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1" name="Picture 5" descr="sf000-sound"/>
          <p:cNvPicPr/>
          <p:nvPr/>
        </p:nvPicPr>
        <p:blipFill>
          <a:blip r:embed="rId1"/>
          <a:stretch/>
        </p:blipFill>
        <p:spPr>
          <a:xfrm>
            <a:off x="6858000" y="2286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istockphoto_576587_orange_blue_sound_waves"/>
          <p:cNvPicPr/>
          <p:nvPr/>
        </p:nvPicPr>
        <p:blipFill>
          <a:blip r:embed="rId2">
            <a:alphaModFix amt="85000"/>
          </a:blip>
          <a:stretch/>
        </p:blipFill>
        <p:spPr>
          <a:xfrm>
            <a:off x="2514600" y="4876920"/>
            <a:ext cx="4114800" cy="1733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Wavelength &amp; Frequency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Wavelength is the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distance between one part of a wave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the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same part of the next wave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requency is the </a:t>
            </a:r>
            <a:r>
              <a:rPr b="0" lang="en-US" sz="3200" spc="-1" strike="noStrike">
                <a:solidFill>
                  <a:srgbClr val="0000ff"/>
                </a:solidFill>
                <a:latin typeface="Palatino Linotype"/>
              </a:rPr>
              <a:t>number of waves moving past a point in one second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5" name="Picture 9" descr="image001"/>
          <p:cNvPicPr/>
          <p:nvPr/>
        </p:nvPicPr>
        <p:blipFill>
          <a:blip r:embed="rId1"/>
          <a:stretch/>
        </p:blipFill>
        <p:spPr>
          <a:xfrm>
            <a:off x="2895480" y="2666880"/>
            <a:ext cx="3276720" cy="1447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freq-wavelength"/>
          <p:cNvPicPr/>
          <p:nvPr/>
        </p:nvPicPr>
        <p:blipFill>
          <a:blip r:embed="rId2"/>
          <a:stretch/>
        </p:blipFill>
        <p:spPr>
          <a:xfrm>
            <a:off x="5791320" y="4952880"/>
            <a:ext cx="297180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Pitch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08" name="Picture 11" descr=""/>
          <p:cNvPicPr/>
          <p:nvPr/>
        </p:nvPicPr>
        <p:blipFill>
          <a:blip r:embed="rId1"/>
          <a:stretch/>
        </p:blipFill>
        <p:spPr>
          <a:xfrm>
            <a:off x="762120" y="3733920"/>
            <a:ext cx="7391160" cy="19857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A measure of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how high or low a sound is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Pitch </a:t>
            </a:r>
            <a:r>
              <a:rPr b="0" lang="en-US" sz="2800" spc="-1" strike="noStrike">
                <a:solidFill>
                  <a:srgbClr val="0000ff"/>
                </a:solidFill>
                <a:latin typeface="Palatino Linotype"/>
              </a:rPr>
              <a:t>depends on the frequency</a:t>
            </a:r>
            <a:r>
              <a:rPr b="0" lang="en-US" sz="2800" spc="-1" strike="noStrike">
                <a:solidFill>
                  <a:srgbClr val="000000"/>
                </a:solidFill>
                <a:latin typeface="Palatino Linotype"/>
              </a:rPr>
              <a:t> of a sound wave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Palatino Linotype"/>
              </a:rPr>
              <a:t>For example,</a:t>
            </a:r>
            <a:endParaRPr b="0" lang="en-US" sz="2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10" name="Picture 5" descr="sound waves"/>
          <p:cNvPicPr/>
          <p:nvPr/>
        </p:nvPicPr>
        <p:blipFill>
          <a:blip r:embed="rId2"/>
          <a:stretch/>
        </p:blipFill>
        <p:spPr>
          <a:xfrm>
            <a:off x="6324480" y="228600"/>
            <a:ext cx="2571840" cy="12193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3"/>
          <p:cNvSpPr/>
          <p:nvPr/>
        </p:nvSpPr>
        <p:spPr>
          <a:xfrm>
            <a:off x="914400" y="5791320"/>
            <a:ext cx="190512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Low pitch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Low frequency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Longer wavelength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5943600" y="5791320"/>
            <a:ext cx="190512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High pitch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High frequency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Shorter wavelength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7:45:23Z</dcterms:created>
  <dc:creator>John Doe</dc:creator>
  <dc:description/>
  <dc:language>en-US</dc:language>
  <cp:lastModifiedBy>Adam Goosby</cp:lastModifiedBy>
  <dcterms:modified xsi:type="dcterms:W3CDTF">2010-01-18T00:04:11Z</dcterms:modified>
  <cp:revision>30</cp:revision>
  <dc:subject/>
  <dc:title>Soun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31033</vt:lpwstr>
  </property>
</Properties>
</file>